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11BBA-9861-4172-B100-65A08FB25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7AD27-9ED7-413E-87E1-7FC412F56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90E93-C4EC-43DA-9D0E-4CA00DD18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2F102-A9DB-415E-AD98-B0DA513C9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AB154-4C0C-4A3E-A321-D48BCF8AF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4E208-984C-4C87-B823-0E35A9EB2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B2191-AC58-4886-ADE3-5D3A4BCDB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4C184-0E92-4CFB-B5A6-3117B904B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59494-FEDA-499F-8BC2-1993F1EA0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071AE-A938-4C62-839C-90EB087DD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2EB97-A7AC-4FCB-8AE9-3C6E00046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B564-8749-49B4-BCE6-FFDA947D5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69383-D1A4-43E2-9E71-B526543CA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C746C-27A0-4C99-9C3D-43D421E7A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87E41-CEB7-413E-9AF7-8BBE72265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F8831-1D16-4A8E-891D-618177968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E6A60-04F4-47DB-95C1-73CDCBB42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94DB4-BF5F-4A31-A50D-9D5143B38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60DCB-9B15-4DAD-B2E0-82E618BB8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1612-753B-4D77-BA21-2BA2B2725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39209-997C-40CF-A360-13BEA4F74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0DB3-EF45-4FE4-AEC7-50B3414CB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15A6-5A27-4304-A116-E0BFE8B8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1327B-B15D-432D-B7B1-EE05A9B85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F453-9DBC-4522-88AC-D3855B6115B5}"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4078-C36D-46F7-82A7-B7C5CE563761}"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S Grades 6-8</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Creating a Graphic Organizer in Inspiration</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do you think we would use inspiration in the classroom?</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find beneficial about using this software?</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nspiration allows students to make easy visual outlines that help with writing skills.</a:t>
            </a:r>
            <a:endParaRPr b="0" lang="en-US" sz="2800" spc="-1" strike="noStrike">
              <a:solidFill>
                <a:srgbClr val="212164"/>
              </a:solidFill>
              <a:latin typeface="Arial"/>
            </a:endParaRPr>
          </a:p>
          <a:p>
            <a:pPr marL="294840" indent="-294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he software is easy use and make learning to write fun.  </a:t>
            </a: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948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nspiration improve my writing skill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would we like to train teachers on how to use Inspirati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the benefits of Inspiration over traditional pen and paper outline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riting is a key part of being successful in life. In the Middle School, we spend much of our time in class trying to improve our writing skills. The best way to improve our writing is by organizing our thoughts.  Traditionally, a paper outline is the best approach.  Now, we have Inspiration software, which allows us to organize our thoughts using graphics.  It is a much more enjoyable way to organize our thoughts and improve our creativity.</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Watch me as I show you how to do the following:</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I am going to show you how to set up a graphic organizer.  I will choose a theme and add three bubbles on the screen. Next, I will add text to the bubbles.  Lastly, I will connect these bubbles to make a unique graphic organizer.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Notice how my ideas are well organized now.</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Use an example such as Reasons to Use Inspiration (Main Idea)  – (Subtopics) 1. It is easy to use.  2. Makes Writing Fun 3. Great learning tool</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understand what Inspiration is used for, consider how teachers might use this software in the classroom.  Think about how it would be useful for student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uring this time, you will create a simple graphic organizer using Inspiration.  Think of a main idea and create three subtopics under the main ide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Take the next 30 minutes to complete the following steps and then we will come back together and shar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Participants will...</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 Load Inspiration software</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2 – Click twice in Main idea bubble</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3- Type the main idea; Example Reasons to Use Inspiration</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4- Click on shape in side toolbar</a:t>
            </a:r>
            <a:br>
              <a:rPr sz="1600"/>
            </a:br>
            <a:r>
              <a:rPr b="0" i="1" lang="en-US" sz="1600" spc="-1" strike="noStrike">
                <a:solidFill>
                  <a:srgbClr val="212164"/>
                </a:solidFill>
                <a:latin typeface="Arial"/>
              </a:rPr>
              <a:t>Step 5- Move the bubble beneath the main idea bubble</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6- Click inside bubble twice and add text</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7 – Click outside the box</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8- Click on the bubble in the side toolbar</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9- Repeat steps 5-8 until you have four completed bubbles</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0 – Click link on top menu</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1- Click one of the bubbles.</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2- Drag the links to the Main ideas to make a connection</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3- Connect each bubble with a link to the main idea</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4- Click Top Menu – File—Save</a:t>
            </a:r>
            <a:endParaRPr b="0" lang="en-US" sz="1600" spc="-1" strike="noStrike">
              <a:solidFill>
                <a:srgbClr val="212164"/>
              </a:solidFill>
              <a:latin typeface="Arial"/>
            </a:endParaRPr>
          </a:p>
          <a:p>
            <a:pPr marL="343080" indent="-343080">
              <a:lnSpc>
                <a:spcPct val="80000"/>
              </a:lnSpc>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12164"/>
                </a:solidFill>
                <a:latin typeface="Arial"/>
              </a:rPr>
              <a:t>Step 15- Click outline to review your chart and outline format.</a:t>
            </a:r>
            <a:endParaRPr b="0" lang="en-US" sz="16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15T18:43:15Z</dcterms:modified>
  <cp:revision>3</cp:revision>
  <dc:subject/>
  <dc:title>Workshop Title</dc:title>
</cp:coreProperties>
</file>